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1FD-BC34-4C57-A9D8-A918F698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FE9-E2AB-47B9-992A-93DFA06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D02-2CA3-43E7-8BD6-0E68CBA3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CF0-D6BD-455F-98D9-7246D441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C27-E6AF-4EFB-9A78-6FD98618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BE83-4D2A-452A-83D9-CBD1830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B43A-52B9-49B5-A142-75BF69C9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F4B-BA28-46E1-A2A4-938764C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A33D-868E-456A-967B-C846E657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65FB-D960-4A96-AC29-19427E46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B0E-C35C-4EC8-9E1E-DB7EB4A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B04-B6E7-408B-9666-CDE9B9FC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ECFB-EE7C-4E85-9ABD-60A441B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C31F-DF3C-41E1-AB70-AA65467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B87-B0CB-4DBD-96CB-77CDA500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13FA-5B56-4F56-95D3-DCC203C4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8E8A-8094-46AB-97C3-C6F98B3B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39B-E881-4D3C-BF0B-76E1380C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D7D-730A-45CE-A4D6-50DC5280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FA7-11F7-4226-88F1-27E7B670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289-37A8-44A4-8949-DFE79CBF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DC7-9815-4E31-9D55-B5468AC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5A7-7786-4A92-863D-E9B2909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C2-650E-45BC-AB99-EBBDDE6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885-9193-4E3A-8ABA-BD89E66DE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BD7A-0348-479B-BCDD-57F2EE4DEC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arkdiver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4114800" y="3200400"/>
            <a:ext cx="343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 Membra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the structure and function of the plasma membrane is similar to that of a steel shark cage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e function important to the man in the shark cage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is function important to the cel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380988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919" h="21600">
                <a:moveTo>
                  <a:pt x="124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919" h="21600">
                <a:moveTo>
                  <a:pt x="9883" y="8224"/>
                </a:moveTo>
                <a:lnTo>
                  <a:pt x="13748" y="8224"/>
                </a:lnTo>
                <a:lnTo>
                  <a:pt x="13748" y="15221"/>
                </a:lnTo>
                <a:lnTo>
                  <a:pt x="15036" y="15221"/>
                </a:lnTo>
                <a:lnTo>
                  <a:pt x="15036" y="16144"/>
                </a:lnTo>
                <a:lnTo>
                  <a:pt x="9883" y="16144"/>
                </a:lnTo>
                <a:lnTo>
                  <a:pt x="9883" y="15221"/>
                </a:lnTo>
                <a:lnTo>
                  <a:pt x="11171" y="15221"/>
                </a:lnTo>
                <a:lnTo>
                  <a:pt x="11171" y="9129"/>
                </a:lnTo>
                <a:lnTo>
                  <a:pt x="9883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27:50Z</dcterms:created>
  <dc:creator>PritchaJ</dc:creator>
  <dc:description/>
  <dc:language>en-US</dc:language>
  <cp:lastModifiedBy>PritchaJ</cp:lastModifiedBy>
  <dcterms:modified xsi:type="dcterms:W3CDTF">2011-06-01T15:30:45Z</dcterms:modified>
  <cp:revision>1</cp:revision>
  <dc:subject/>
  <dc:title>Slide 1</dc:title>
</cp:coreProperties>
</file>